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FD9-6F3B-4495-A7FE-95D7EA30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87D-5A03-4FA6-BD76-53DBC2AD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302-D31E-45A2-82AC-A27CEBBD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956-3F6E-474B-9365-F2E580C5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9EDC-B397-49F2-A783-0223B139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A480-CE8D-4A6C-B4C3-F394407A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224E-A2C7-4499-A59C-30850B35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65AE-6F17-47A6-AB83-24285DF9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FC89-EA5F-47E6-A891-E28793E2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1273-0A09-46CA-A51A-9740B762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9B13-C6E0-4ABB-8DBD-96355A59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D6A-7A6E-44C3-9537-1FB6DC8E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0DB4-C6E0-42A7-8B0E-CB9AA7D0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592C-F69E-4328-AAD2-8A535716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F42D-2057-4DCD-AEEA-B666CF2E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A059-E704-4092-B83E-23CEA69F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0CFA-F7E6-4926-8721-EFBCA1AF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B12-3E89-4274-A64F-0C7D3B10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6FB-B8BF-4D5B-BE49-9E60871D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220-F1B8-4391-9025-A52FAF52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67E-728E-46BA-88BB-4893810A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3A3-59C1-4E0A-810E-F086ED21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21B-683D-4DA3-B6EC-A2F06997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512-50A4-42FC-8B52-75E74EA7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5FB2-4747-4984-9A6B-D22D7DA2A3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704F-3B38-4916-96AA-BB83DD124B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rm-Up Sent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od you believe a caterpillar have about 4000 muscles in it’s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fish are sort of weird, they didn’t have scales but they did have whis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urnal #29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the conversation that would occur between a car tire and a street cur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arm-Up Sent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my brother-in-laws use up tanksful of gas on their jobs, one works for the Int. Rev. Service and the other works at a local branch of the Fed. Housing Adm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hop-till-you-drop urge can become an obsession, and a support group Debtors Anonamous exists and people who have maxed out their credit cards, and morgaged their lives discover that they have plenty of compa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urnal #3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23623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advantages and the disadvantages of having a phone that “shows” the person you are talking 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iday Warm-u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7631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change hate to love in just three steps – that is you can change the wor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to the wor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o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changing one letter at a time, where each change produces a new wor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ate    have    hove    l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3886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38862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3886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4956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e how many steps it takes you to make the following transformations: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o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a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jump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oo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oo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ar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58:49Z</dcterms:created>
  <dc:creator>tpagel</dc:creator>
  <dc:description/>
  <dc:language>en-US</dc:language>
  <cp:lastModifiedBy>tpagel</cp:lastModifiedBy>
  <dcterms:modified xsi:type="dcterms:W3CDTF">2010-06-03T16:59:21Z</dcterms:modified>
  <cp:revision>1</cp:revision>
  <dc:subject/>
  <dc:title>Warm-Up Sentences</dc:title>
</cp:coreProperties>
</file>